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C9D2-44B0-479F-80FA-3AF606C754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657D-02AB-428D-9143-DA15DE21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FD0C64-9ED1-4131-B8BA-5AAD0FAF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A755C5-00C3-467F-89E5-02032385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FD9E7D-5B87-42DD-9C1E-61335446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F74DB6-38A5-4B42-9AF9-B265161F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1700BA-18A2-4009-A5CD-E134F0E8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F5BED0-0DA8-4A65-9F41-3C3B6EB8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660B7F-C5E5-4D30-A902-89D8D5B0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7193CD-37D6-4756-A649-C0B64C10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6C5887-D773-444B-A402-0D267EEF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FB29A-326F-4533-9CCC-29942406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EEB8-E89F-40BD-A668-21CDF2BD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A38BE-4DC8-4C42-8270-D2EDA97E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F91F6-D577-4D51-9CDC-8BED43D8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C8670-9298-4F65-9288-994A7F2D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A9543-347A-40C8-A95E-6146F1FF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90E60-A1AF-468D-AEE6-8C317D4C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8E036-A643-4568-B760-B5569C3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DFC06-72E1-46D1-8B19-17EBD41C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78B7F-B6B8-459B-AC38-051E87B8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8E6B7-BC58-4747-82C7-40FF27D0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CF124-8E57-4F2C-8B4B-F46E04D6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33BD-343E-4026-A1F3-56BDF4970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F4ED8-8D34-40CB-B341-ECB07895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93453-1372-4427-9CFA-AA62B1C1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BE669-4960-4EAB-A23A-8D16F3DC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944F5-D587-4891-A3A3-83755B26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DA155-D999-4EFE-BF8D-1E88B1A5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0E5F3-9A48-45C1-8079-7EE626C7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BDE06-31FD-418B-B950-CF6D8C80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D31D5-6359-4627-8C5B-E7ADF549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934ED-8993-4A61-9A1D-C9653629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06BEB-CAE4-4842-A5CA-8806C9FA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66C33-1F26-4479-BFDB-B3C793CA8F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D630F-6BDF-4F57-8279-8CDC7FFC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AD2E5-BC7C-41B3-B720-384CC641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5FAE4-DFDF-44AB-9DC8-04D7DD45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214438-4818-42AD-9792-FC00A0A5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7CD4DC-8416-44D3-A34F-3C1397AD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EA670E-894C-4C19-AADD-07279B3D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33431E-6600-4D93-B0EF-946292DA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D22471-3646-48DB-BAAF-C1D86813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159F0E-4E9B-4349-98A7-51B55FE9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ACA766-285B-40AD-9DA6-0FD5D040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34C52-90E0-4F60-AE5B-8849D3AB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23765A-BCDD-4745-81FA-534895A1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352049-68DE-41BC-821C-27EBE770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C99CA3-F702-47E4-A840-D856E398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AFB9AC-2B00-4F60-87FF-4FCFCA13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59C6C1-E04C-455E-99C7-E29F0B0D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559E4-DF31-4798-9D95-2AE3D68D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4F6CD-E345-4F05-81E2-F543869F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D3D1F-BF3B-4224-A694-8168D0F3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E9A40-3463-4693-9A53-ABCF78C6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65737-DAC0-4E28-A239-7C6BD6A3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D42B7-F925-439C-B5EF-5403DA9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18410-8DCA-4343-96D2-32509143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2B2BB-B999-4ED8-8EFD-6D52C81D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9208D-84A7-46B5-B6D6-A07F0C49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30D18-3357-4095-B317-33B825A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EE15A-958D-4339-ADCF-58FF3111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6630D-B829-40C8-A244-01A7A9F1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81B3A-7F82-42F2-A5DA-2DBE50C0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B4A9A4-C256-40EE-AEF3-CBC53980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67D442-A25E-46BD-836C-8A9B9ED9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DDD172-D69F-4F20-A539-9ACE310C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CBD3E-94EF-49DE-877A-3A536E02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34E434-3520-4090-AE34-F6912A96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E82BDB-A48A-4744-A33D-FF1C93B5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72C18F-CE18-461D-88DD-6E760DD3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5686D8-BDDE-4C67-809A-85BCC8B5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5C0247-9C84-4F0F-A614-BEAB0255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452B8F-0E59-41D4-8663-BF42794A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096D0B-48D0-431A-A110-13E4BDBD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8F8CD5-8A67-4D60-B8D0-4DDBB0FB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DB0550-F7C7-48B5-AA20-5BF78B8B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12A52B-30C8-47A8-AF9D-FB07A319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34D0D-61B7-4DD6-93A7-FF1B903D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8A4C26-9394-4125-896B-B5D0B423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CF4D52-12FA-44E2-A274-E9BCEE92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BE33D5-1B5F-4D34-AF1B-8C7B1CC8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0E682E-DC2F-446E-9A8F-470028FC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498B48-B6CE-4C5B-BAE3-6C8BAB23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F4A7A8-4832-4159-9023-EB0878B9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D4B5455-CA85-4E31-BBB2-0C427B96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387FAD-F213-47C6-AAE2-03DFE345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77AFFA-5F2B-4F1D-8494-8B8FC8CF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1705CE-D9CB-45CE-8C73-04CEC418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5EF5E-7645-43C9-B41E-0C533304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9A574B-836D-4535-848F-5CBD56DA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CA69EF-58FA-4C1D-B8C7-A8A24B07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9FD657-D14F-4057-86FF-84621B7C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3AA913-1A88-422A-B906-CAEF91B1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4DA7C8-CBF3-462B-B8F6-A59CB4B4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CF743E-5B87-4865-8695-03055E75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A5C0F2-6928-4634-9086-2F7B4337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25FE04-D983-48C0-B7A7-A174B1D5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CD56A8-2CD3-4D5E-A7E8-11F0027D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019363-6152-4F73-945B-F50FC703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E5306-DFAF-47D4-B543-64C819A2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68B79E-8552-4F5A-8552-BE4DBA5E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F50913-0C46-443A-A3EA-74500385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038905-DFC9-4B53-AE3E-E922A02A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EC95-7A02-4CC4-883C-7704F159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D1A3A-9C93-48D1-802E-974D17EC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5B2A23-A7E3-4838-9833-2FAFF416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892A10-FACA-4C17-89E9-519CF12F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6DB498-8F25-4FD8-9236-C20E1A39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94699B-0584-42B0-8FAF-117F4F13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6D46CB-2511-442F-9C6F-8087F99A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18772-A5F9-4FA8-824F-7C71B9B8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507165-04FB-4F5E-9B91-A4E13A03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65564A-E3A9-41AB-A23B-0797BC6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37A858A-79E5-4BDB-8D47-98ED25E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54B7C2-9348-4776-959F-B180E206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F3AFBC-0DD2-42DC-B725-0D20FF05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5CA566-BCC9-4C79-AE45-3AF11B03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5F446A-A616-4286-8DA8-9B32474C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E2302F-87A7-4A02-8A85-0EAB37A2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BC6CE8-4638-45A2-9A73-04D2202F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136C25D-4844-4BC7-8D84-33F67A3F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E89D5-AF20-4969-A3F0-3ADD1465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7A3A31-5EEB-4568-9EBC-BFA7A99A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747F69D-58F0-4F7E-8DEF-20D02C55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06302A4-E41E-44FD-9426-32142849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86948AB-8DDB-4C27-B589-4B22EA40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1803451-E57C-463C-B78A-74D74AD3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2239A2-329D-4EE2-95D8-11746A22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CD41267-95BB-4D94-9BAA-35F6B70B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38D3CB-2A49-479E-8653-DD0A3528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0A1AC9B-0971-4441-869B-AA30DFB3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16B4E1E-43D5-40E2-A6D9-2B9782F3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F592A-29C1-497C-9384-336E9616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C2498E-8C74-456F-8ACD-C7900B48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468D1F-7FBF-4BEE-98D0-6755E531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ABE4ABC-FE34-4E72-AE46-0A083DEC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3F556E5-24F7-48C1-80A4-686F1132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434D9F-6216-4227-B1CB-1C5AA888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6444763-D69B-41FF-8589-472F70DC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014D20-7EE8-4FA3-8D51-6909CF45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CA6224-38B1-433B-8635-5D736F9D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53BA58-23E2-4C65-882A-035B7CBC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ABB933C-62A6-472F-9957-EE1B9A35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B5B97-3AAE-4CA5-90CC-F43CF7B552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746ACB-F3BD-41AE-A00E-91906F5E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A226DE1-CDB0-44FD-92B2-7DCB0C26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315392-A149-46AE-944E-F1874AC0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520E243-686C-4F14-A851-3BE45C5A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3075AE5-7471-48BA-9893-47D7D2A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ADA4A1E-7575-4AA7-B7E8-B191CD3E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C7A381D-B0E9-49EB-93BE-7D781FF2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4DC4714-EEBF-4592-A011-22AC5B4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C343BEF-86C5-4525-AAE5-F5D5A543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6FC131B-905A-45DF-B521-E759463B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BA19E-90AF-4516-B8CE-3E935BDF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6E1D131-848C-4524-8F93-58398C70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F2B441-E68D-4281-99E5-A5DF3413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7D4ECF9-996E-4D6D-B1DC-C9937B9C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CE3244-3004-48BA-A06D-B67C8F74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4A20FBF-24AC-4CD5-BC6F-9E0E5CBC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93C414-152F-4989-A77E-DFDBC1CF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37A7D82-E857-4C33-9C24-2DD51463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CE24297-B31A-4C32-BA4A-ED3DDB89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CFBBCC-CEDB-4A0F-904E-F1B53B4D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2E2DE32-285B-40C3-B382-BB63FF4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8216A6-A0BB-4DAA-AA46-F6F5E796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38B5210-811A-4276-8B5B-CB586B9F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25C240E-4648-4A3F-95CC-D4CFFB0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474520-73D8-4447-A98A-2200DC35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CBC96F1-09B0-4234-BD6D-AB5A6132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F69715-D779-437E-92F5-B9B4C038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2FE8E5-B82B-4968-935F-8D5BFFAC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B5D1DF6-77D1-4699-835C-BC29A865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2259752-2CC3-406B-85D5-E9281134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12064CC-7BB8-4BF4-B359-01E8A066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811E114-7942-40FC-8895-CFD28404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320C7-989A-4C9A-8C2F-78D9AE71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3D9897-3C55-4A9D-9419-5FBCD85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80E2FA5-76F3-4B91-BEC9-DE1CE66D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AFE9DB7-6F69-4F61-BE21-FB477B15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6EFC29-05C9-4DE3-A869-16F01844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CE63289-7059-4E08-8F71-68825D7E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BB6A185-2F38-4CDB-A98C-B5EA920C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72EAA6F-7316-461A-A7B2-D331ED8B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D77737F-1518-46BE-91C6-03125B40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C358CF7-25F1-4775-914D-10AF0D67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8C3D1FD-C314-4BF6-8098-BA08E69D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F06EB-0B14-4B8E-83F7-A4630276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484C76-9E8F-4780-8360-E86B1EA4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9B57B57-18A4-44A8-8E04-A2662096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177F6AB-C527-4A33-85DC-0890FDE0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745E212-641C-4C53-B93A-3FD298DD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1121F8-8087-4726-8ADD-3A319DAB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C51A40-C697-4F6F-8D11-48B81C4B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1701D45-B326-4FAA-AFCE-65727839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7CFD6A1-F11E-40C8-9913-034F97D0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66EB266-4D8F-40C4-A2AC-DBF49FC3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9AFD6D1-CD7E-4029-A90C-D79CA98F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80C99-49A1-4E0D-84D1-E97DD37F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E5EC5B9-3FBF-4DB3-8583-04C8DAFB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72BECE1-FC84-460B-B944-54F07C18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73747D0-614A-42E6-B076-AA147668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120D7CC-67B6-4F0E-A2FD-4F99B076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F28EAFD-1397-4444-829C-5E32CCD6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647785E-8F5D-4E5B-9865-9C497FB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9F54067-136F-4BBC-8102-1F2D628D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C1DCF7-31FF-42E0-9EDD-E3844644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23E34BA-0482-44AB-AF25-DF925BF5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BBE779C-EF9C-475C-83C2-A789773A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4FA2-E4B0-48EB-9315-9BD50D11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DDEE4-7967-48DE-A6B1-125F3C4E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0091C03-F738-44AD-ACD1-3D334231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A78DF4-E235-4F96-8FCD-B866A394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A805D25-3B46-4324-8FDD-E35E9215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E9DAE6A-FE57-473B-BC3C-D23A4D48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6D2DD1-FB51-417C-B56F-83BBD5E7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A4D173-C5B4-4844-B6E7-E27C4C10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CC4C1B6-4FDB-4429-BDBF-25F48631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BFE62B4-E49B-4C98-8501-9DF32A6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C31942D-7F88-4347-913B-B650F74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87F38CC-7CCB-40E2-A4A5-4669087D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CDA48-5F1E-4BDC-96F0-3F1DD44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1C8D6F4-1924-4C69-93B1-EC83AEB9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A2C426F-7808-4C15-A766-0F07B558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16D14D-D0EC-4B6B-90E2-179C14AD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1FC6D28-67A2-417E-B4A5-FBFB6F18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41150EF-BC50-4115-8C23-316DE06C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99B2A34-59E6-4636-A74F-B5851540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DC37EED-B1DF-48DE-ACC6-F27FEB95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D82DCE4-0078-46F4-9895-D1DA6875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1DF6708-C829-4CEE-9D11-47E1C7FD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7175F8-775C-45DD-84B7-F8D4C962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FEB8A-0DC6-4E0F-AAE0-640246B5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1F742CE-1805-474C-A5E5-AB86FC9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86D03CE-F23C-4F3C-B1A7-77021B5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7A77AD9-A2B1-48F7-9587-950C9DAF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E55F4C9-1230-4E40-9AEF-347A8AF4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8319547-E4AC-447D-AA09-830F74DF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02007A8-90CE-4A83-B3C7-9DDD1911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ACDB0EF-40EF-44F5-80F6-5B4A2083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55826B0-4E0F-4A93-882F-AB6A9C97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833C33-06F0-4690-9885-9F39D15A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913F662-8432-4841-95AE-31104863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41CBD-9962-45E6-BA50-9E8885BE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AA1B58F-0749-4130-A273-A6A2C1D9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D109F9D-CF14-4DC6-B177-15D681B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B3FC79E-16A4-4041-8C8E-C7ADAC4C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B50DA2B-FCFB-474C-A894-35DC726A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86E7939-2667-408D-8CA7-C1BB3636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08A2722-E816-4CE1-81ED-711D699E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5975032-CB1D-41A0-908D-2C54AFD9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D54D5F-FCC2-4FD3-AD3C-6FFC9AF9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A8C28-458C-4A7A-AB4A-00585E03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7D6707-05FC-4F45-874F-C5AF6504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CD92-3AD1-43C6-B4A1-37DBA064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391A1-399F-4549-9B97-30329B0D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1BD9-71E9-497C-9880-654841D4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496BAE-A7DF-43C3-86A3-CE4E19F1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DED85-FCEB-4350-B3DB-DFB12AE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CEC69-6990-4FD1-9667-B9F02826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01CF4-9E28-435B-9074-66AD3BD3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8C324A-3F24-43CE-A2A0-5CF511E0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9BC00F-41B9-43A0-847D-E3A7857E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0F9C8-C1C3-4BCD-9AA4-A5130EBB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D37911-CDF9-463B-B6DB-12237440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79C08-862C-47DC-B67A-0936EB4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3146B-682E-4157-B633-7E8094FA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FAAD-4CE1-47A3-8CEC-0B162AA8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E836E-54F1-4341-97FD-407DCF4E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F276F6-4DF0-4354-9D52-5C41408C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A3EC8-658A-4552-9058-0AFD5F51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A556DF-7C15-46D0-BB29-2CC23669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4EF079-A016-43AE-8B24-9EF9E5AC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FC072D-B760-4CB4-9D5B-76893808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298A7E-BFBD-4A50-9C51-0F02097A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02527C-B869-4786-A382-16DCD1FF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FD4E6E-40A2-4F6D-B5E8-494F046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6D4AF6-007A-4846-A082-B1C475F5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D229-5C01-48F9-8725-6F52A78C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EAF816-6F8B-47A8-A979-32ABD5BB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F9167-501B-4D05-9FC6-8111811D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FCF1D9-0D75-4742-926E-971178EF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57267-9050-479A-865C-BDF425FA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FF6B09-12B5-4C7E-82F3-5986ACD3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FD7F5E-BA4E-4595-8D3A-90EFA4DF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9A7933-F732-417B-B03A-E57839AD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3F517C-30E2-4891-B2DE-75798850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45067E-16A0-41E8-AB0C-3C6CB08F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02E74C-F5FA-47F8-8062-CA8BFD3F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8F526-9118-49B3-BB94-DA9AB61E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98CCFB-A54D-4DA4-90C9-54E6413F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94FAB3-CE19-4B39-BAEC-4669748F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0866FD-DF9F-4842-9D88-7936BA0D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39FE45-6019-40C0-A8FB-2ED08A6E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2E59FF-6CCB-4C7E-8817-1402A3B5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F3CEBB-497E-4450-A67D-0D3DE493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F682BB-7B28-4B68-B0A9-0D3DB0D8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97F0EB-4407-4749-BF76-CC84E056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33ED08-31B6-4723-897B-4185C8F3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31B1EC-D50A-4542-BB90-9762B0FE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FC4B4-4B06-4E12-B03B-571C8D48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661A42-445E-40F6-9A35-BDB6FF68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C642F0-6D06-4CAF-BC7F-160CF005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0828B5-A886-4877-B61C-7E7C45B5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EC0A48-28DB-471D-838F-F134C8C2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48D6E9-4343-4708-88BF-28BBFBC3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DD5CA7-DA47-40ED-814C-5A8CF017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92FFBB-E72C-496A-B50F-58C2245F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66E21D-22FB-4A4B-A421-3549EEBE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187059-8C83-46B9-9B56-FEC5D806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5FA5EC-FF04-4DF9-9E24-E5391206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B21-6DDD-42D6-AEF7-61E3ABBE3C29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FA71-2017-46E5-A975-961B66DEED6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88E6-1E82-4CAC-B2C7-9A4937AD647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F205-8B67-4C1A-AA85-D4043744FC3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0FA1-8ED7-432C-97A5-DA1B3931D73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FAEA-E2A4-4FBD-AF7D-93B7ABF5229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4DCE-5340-401C-BD24-5C5D0992A75A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807-BCF8-4B7B-8684-1A7A069E9E1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674B-F4E8-44F4-94CB-4F212BA22BF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25D6-9BD3-4B0B-AE16-34E9D0C26F8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7B50-360B-498A-8325-D120F533EA3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FBB3-8011-40E0-8B2D-7D982DBDEB4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2E27-3DD0-4FB6-A73B-2573F2B20AF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BC85-F6C9-4F15-BD3D-DDAB2C8CBAF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0E05-EE0E-4302-A69D-D94983A7456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5B30-9D3B-43CF-8FB0-4E6DAA3F94D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735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737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9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0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1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2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3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4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5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6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7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8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9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0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1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2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3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4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5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6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7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8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9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0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1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2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3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4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5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6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7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8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9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0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1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2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3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4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5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6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7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8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8C50-E395-4508-B41C-DDA42C375AA5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44E7-CC7D-4D4C-AA35-5E992A8F11D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DC09-1BE8-4110-9463-9495CDE1B4A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5207-A285-4273-8F65-CDBEA58152F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A5B3-859B-4C85-8C83-87192859E5D9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E588-A23F-4E2F-994D-348B2017F9D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E9C7-97DC-4832-BEBF-8A1670390A3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33EC-2B46-4C87-B5CB-F6DF6922299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734B-E4D5-417D-B190-54B14AB3D6B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43B5-8A2F-4BB2-9FAB-2C57084C1C2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F1F3-5124-461F-B899-582AFE0ECF5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806B-580D-4B3F-8948-237443D0195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C99D-756E-4D21-A4BB-663D7BC263C6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A39B-A0E1-4A7A-962E-3DCD7BE825B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3A80-600A-4780-BD50-6E736D17C5B8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C131-8E1F-4B1C-BE3F-3C791906CBD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8B68-E370-4BAB-891E-507771B29C4E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52E3-AC77-46C6-B84D-CFD2C71F091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8801-C171-48F8-9E1C-B320E3FF3785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5342-DA8B-4125-9297-D503755462C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1439-0DA1-4DFE-B085-9F83A63E6D8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56F5-1A60-4C81-AEC7-C7C6C1BC066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70AC-4931-47B1-8357-E0FA8C9812D8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D50F-85DF-48DC-A2C3-80466A38A13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3FD-B659-44C6-8D5F-5CC1D2E934D8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FE4A-D418-4168-B180-F81CFD3A147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8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0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5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3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4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5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6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7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8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9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0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1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2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3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4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5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6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7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8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9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0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1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2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3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4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5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6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7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8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DBD6-C0DE-4774-AC6E-67341B410B4B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981E-0FFF-4476-A251-2E455FFCA1C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337A-3715-4B33-AFA3-DB58544BC84F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F0FE-BC36-4381-804C-397EA9AD03B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EA01-90EB-415D-B55D-426B1E3994E8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F80E-9C9A-4E02-A043-AC58BBB6269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CB76-8D5E-477B-98F3-AA645CD81CF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CAC5-CB6F-445F-9FD5-321C871BB60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2B9-EDC6-4481-A497-F03993F27E5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4265-901C-404A-AD0F-82D0B5C935A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29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297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298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99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01" name="Picture 161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2" name="Picture 58" descr="D:\Documents and Settings\Nomjanns\My Documents\2013\Tx CI Approvals\Presentation Templates\Picture5.jpg"/>
          <p:cNvPicPr/>
          <p:nvPr/>
        </p:nvPicPr>
        <p:blipFill>
          <a:blip r:embed="rId3"/>
          <a:srcRect l="2670" t="0" r="0" b="0"/>
          <a:stretch/>
        </p:blipFill>
        <p:spPr>
          <a:xfrm>
            <a:off x="1258920" y="5245200"/>
            <a:ext cx="1440000" cy="631800"/>
          </a:xfrm>
          <a:prstGeom prst="rect">
            <a:avLst/>
          </a:prstGeom>
          <a:ln w="0">
            <a:noFill/>
          </a:ln>
        </p:spPr>
      </p:pic>
      <p:grpSp>
        <p:nvGrpSpPr>
          <p:cNvPr id="1303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30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09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31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13" name="Oval 102"/>
          <p:cNvSpPr/>
          <p:nvPr/>
        </p:nvSpPr>
        <p:spPr>
          <a:xfrm>
            <a:off x="436680" y="1362240"/>
            <a:ext cx="2162160" cy="2172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14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315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6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7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8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9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0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1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2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23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24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32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28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329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0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1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2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3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4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35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3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4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341" name="Oval 139"/>
            <p:cNvSpPr/>
            <p:nvPr/>
          </p:nvSpPr>
          <p:spPr>
            <a:xfrm>
              <a:off x="838080" y="4770360"/>
              <a:ext cx="18288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916360" y="3921120"/>
            <a:ext cx="553248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ZA" sz="3200" spc="-1" strike="noStrike">
                <a:solidFill>
                  <a:srgbClr val="003896"/>
                </a:solidFill>
                <a:latin typeface="Arial"/>
              </a:rPr>
              <a:t>CLARIFIC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SUPPLY AND DELIVER UNINHIBITED OR INHIBITED VIRGIN OIL</a:t>
            </a:r>
            <a:br>
              <a:rPr sz="2400"/>
            </a:br>
            <a:br>
              <a:rPr sz="2400"/>
            </a:br>
            <a:r>
              <a:rPr b="1" lang="en-ZA" sz="3200" spc="-1" strike="noStrike">
                <a:solidFill>
                  <a:srgbClr val="003896"/>
                </a:solidFill>
                <a:latin typeface="Arial"/>
              </a:rPr>
              <a:t>Presentation</a:t>
            </a:r>
            <a:br>
              <a:rPr sz="3200"/>
            </a:br>
            <a:br>
              <a:rPr sz="3200"/>
            </a:br>
            <a:r>
              <a:rPr b="1" lang="en-ZA" sz="3200" spc="-1" strike="noStrike">
                <a:solidFill>
                  <a:srgbClr val="003896"/>
                </a:solidFill>
                <a:latin typeface="Arial"/>
              </a:rPr>
              <a:t>Commercial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Rectangle 2"/>
          <p:cNvSpPr/>
          <p:nvPr/>
        </p:nvSpPr>
        <p:spPr>
          <a:xfrm>
            <a:off x="3276720" y="5222880"/>
            <a:ext cx="55767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20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Date: 18/11/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436680" y="1052280"/>
            <a:ext cx="8378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896"/>
                </a:solidFill>
                <a:uFillTx/>
                <a:latin typeface="Arial"/>
              </a:rPr>
              <a:t>A Three (3) steps evaluation will be conducted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1.Basic Compliance – Commercial Evaluation Requirement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2.Functionality - Technical Evaluation Criteria overall 80% Threshold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3.Prices and Preference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Slide Number Placeholder 4"/>
          <p:cNvSpPr/>
          <p:nvPr/>
        </p:nvSpPr>
        <p:spPr>
          <a:xfrm>
            <a:off x="379584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451E-A3A9-487E-BFA7-9B8F69774D6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 txBox="1"/>
          <p:nvPr/>
        </p:nvSpPr>
        <p:spPr>
          <a:xfrm>
            <a:off x="436680" y="1052280"/>
            <a:ext cx="8378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896"/>
                </a:solidFill>
                <a:latin typeface="Arial"/>
              </a:rPr>
              <a:t>Contractual requirements are not evaluation criteria. They are required to be met and assessed after the evaluation and ranking of the tenders.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SDL&amp;I undertaking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Health and Safety compliance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Environmental compliance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Quality complianc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0" name="Slide Number Placeholder 4"/>
          <p:cNvSpPr/>
          <p:nvPr/>
        </p:nvSpPr>
        <p:spPr>
          <a:xfrm>
            <a:off x="379584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99E8-EA7E-4E1E-A22A-C1489082E06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UAL OBLIG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TO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LOSING DATE AND TIME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REF: kzn048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2 COPIES PLUS USB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ubmission of the list of mandatory tender returnable documents as indicated in 1.3 Tender Returnables,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SDB4 must be signed and returned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Strike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3D0A-1CA2-47C8-A9BA-36F3313527FA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0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5" name="Slide Number Placeholder 4"/>
          <p:cNvSpPr/>
          <p:nvPr/>
        </p:nvSpPr>
        <p:spPr>
          <a:xfrm>
            <a:off x="379584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1EBA-5263-4ED1-A5C4-580C3314B7D8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32"/>
          <p:cNvSpPr/>
          <p:nvPr/>
        </p:nvSpPr>
        <p:spPr>
          <a:xfrm>
            <a:off x="1650960" y="0"/>
            <a:ext cx="1408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57" name="Group 88"/>
          <p:cNvGrpSpPr/>
          <p:nvPr/>
        </p:nvGrpSpPr>
        <p:grpSpPr>
          <a:xfrm>
            <a:off x="0" y="0"/>
            <a:ext cx="9148680" cy="6858000"/>
            <a:chOff x="0" y="0"/>
            <a:chExt cx="9148680" cy="6858000"/>
          </a:xfrm>
        </p:grpSpPr>
        <p:grpSp>
          <p:nvGrpSpPr>
            <p:cNvPr id="1358" name="Group 87"/>
            <p:cNvGrpSpPr/>
            <p:nvPr/>
          </p:nvGrpSpPr>
          <p:grpSpPr>
            <a:xfrm>
              <a:off x="0" y="0"/>
              <a:ext cx="8640720" cy="6858000"/>
              <a:chOff x="0" y="0"/>
              <a:chExt cx="8640720" cy="6858000"/>
            </a:xfrm>
          </p:grpSpPr>
          <p:pic>
            <p:nvPicPr>
              <p:cNvPr id="1359" name="Picture 3" descr="dd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556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0" name="Picture 86" descr="logo small"/>
              <p:cNvPicPr/>
              <p:nvPr/>
            </p:nvPicPr>
            <p:blipFill>
              <a:blip r:embed="rId2"/>
              <a:stretch/>
            </p:blipFill>
            <p:spPr>
              <a:xfrm>
                <a:off x="6494400" y="517680"/>
                <a:ext cx="2146320" cy="54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1" name="Rectangle 35"/>
            <p:cNvSpPr/>
            <p:nvPr/>
          </p:nvSpPr>
          <p:spPr>
            <a:xfrm>
              <a:off x="46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389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578400" y="3213000"/>
            <a:ext cx="3203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9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Group 82"/>
          <p:cNvGrpSpPr/>
          <p:nvPr/>
        </p:nvGrpSpPr>
        <p:grpSpPr>
          <a:xfrm>
            <a:off x="260280" y="1201680"/>
            <a:ext cx="2482920" cy="2444760"/>
            <a:chOff x="260280" y="1201680"/>
            <a:chExt cx="2482920" cy="2444760"/>
          </a:xfrm>
        </p:grpSpPr>
        <p:sp>
          <p:nvSpPr>
            <p:cNvPr id="1364" name="Oval 38"/>
            <p:cNvSpPr/>
            <p:nvPr/>
          </p:nvSpPr>
          <p:spPr>
            <a:xfrm>
              <a:off x="37152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5" name="Oval 40"/>
            <p:cNvSpPr/>
            <p:nvPr/>
          </p:nvSpPr>
          <p:spPr>
            <a:xfrm>
              <a:off x="34776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6" name="Oval 41"/>
            <p:cNvSpPr/>
            <p:nvPr/>
          </p:nvSpPr>
          <p:spPr>
            <a:xfrm>
              <a:off x="260280" y="1225440"/>
              <a:ext cx="236052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7" name="Oval 42"/>
            <p:cNvSpPr/>
            <p:nvPr/>
          </p:nvSpPr>
          <p:spPr>
            <a:xfrm>
              <a:off x="38412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8" name="Oval 43"/>
            <p:cNvSpPr/>
            <p:nvPr/>
          </p:nvSpPr>
          <p:spPr>
            <a:xfrm>
              <a:off x="31104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69" name="Oval 39"/>
          <p:cNvSpPr/>
          <p:nvPr/>
        </p:nvSpPr>
        <p:spPr>
          <a:xfrm>
            <a:off x="439560" y="1362240"/>
            <a:ext cx="2162520" cy="2172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70" name="Group 83"/>
          <p:cNvGrpSpPr/>
          <p:nvPr/>
        </p:nvGrpSpPr>
        <p:grpSpPr>
          <a:xfrm>
            <a:off x="174600" y="1201680"/>
            <a:ext cx="2643120" cy="2494080"/>
            <a:chOff x="174600" y="1201680"/>
            <a:chExt cx="2643120" cy="2494080"/>
          </a:xfrm>
        </p:grpSpPr>
        <p:sp>
          <p:nvSpPr>
            <p:cNvPr id="1371" name="Oval 44"/>
            <p:cNvSpPr/>
            <p:nvPr/>
          </p:nvSpPr>
          <p:spPr>
            <a:xfrm>
              <a:off x="44604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2" name="Oval 45"/>
            <p:cNvSpPr/>
            <p:nvPr/>
          </p:nvSpPr>
          <p:spPr>
            <a:xfrm>
              <a:off x="1746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3" name="Oval 46"/>
            <p:cNvSpPr/>
            <p:nvPr/>
          </p:nvSpPr>
          <p:spPr>
            <a:xfrm>
              <a:off x="45864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74" name="Group 84"/>
          <p:cNvGrpSpPr/>
          <p:nvPr/>
        </p:nvGrpSpPr>
        <p:grpSpPr>
          <a:xfrm>
            <a:off x="298440" y="2782800"/>
            <a:ext cx="1479600" cy="1454400"/>
            <a:chOff x="298440" y="2782800"/>
            <a:chExt cx="1479600" cy="1454400"/>
          </a:xfrm>
        </p:grpSpPr>
        <p:sp>
          <p:nvSpPr>
            <p:cNvPr id="1375" name="Oval 68"/>
            <p:cNvSpPr/>
            <p:nvPr/>
          </p:nvSpPr>
          <p:spPr>
            <a:xfrm>
              <a:off x="369720" y="2840040"/>
              <a:ext cx="1352880" cy="1366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6" name="Oval 69"/>
            <p:cNvSpPr/>
            <p:nvPr/>
          </p:nvSpPr>
          <p:spPr>
            <a:xfrm>
              <a:off x="396720" y="2881440"/>
              <a:ext cx="1295640" cy="12967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7" name="Oval 70"/>
            <p:cNvSpPr/>
            <p:nvPr/>
          </p:nvSpPr>
          <p:spPr>
            <a:xfrm>
              <a:off x="339840" y="2797200"/>
              <a:ext cx="140976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8" name="Oval 71"/>
            <p:cNvSpPr/>
            <p:nvPr/>
          </p:nvSpPr>
          <p:spPr>
            <a:xfrm>
              <a:off x="298440" y="2797200"/>
              <a:ext cx="139392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9" name="Oval 72"/>
            <p:cNvSpPr/>
            <p:nvPr/>
          </p:nvSpPr>
          <p:spPr>
            <a:xfrm>
              <a:off x="369720" y="2825640"/>
              <a:ext cx="1408320" cy="1411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0" name="Oval 73"/>
            <p:cNvSpPr/>
            <p:nvPr/>
          </p:nvSpPr>
          <p:spPr>
            <a:xfrm>
              <a:off x="325440" y="2782800"/>
              <a:ext cx="139716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1" name="Oval 74"/>
            <p:cNvSpPr/>
            <p:nvPr/>
          </p:nvSpPr>
          <p:spPr>
            <a:xfrm>
              <a:off x="396720" y="2881440"/>
              <a:ext cx="1295640" cy="12967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2" name="Oval 75"/>
            <p:cNvSpPr/>
            <p:nvPr/>
          </p:nvSpPr>
          <p:spPr>
            <a:xfrm>
              <a:off x="411120" y="2881440"/>
              <a:ext cx="1268280" cy="126828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83" name="Oval 76"/>
          <p:cNvSpPr/>
          <p:nvPr/>
        </p:nvSpPr>
        <p:spPr>
          <a:xfrm>
            <a:off x="404640" y="2881440"/>
            <a:ext cx="1281240" cy="1284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84" name="Group 85"/>
          <p:cNvGrpSpPr/>
          <p:nvPr/>
        </p:nvGrpSpPr>
        <p:grpSpPr>
          <a:xfrm>
            <a:off x="241200" y="2782800"/>
            <a:ext cx="1579680" cy="1481400"/>
            <a:chOff x="241200" y="2782800"/>
            <a:chExt cx="1579680" cy="1481400"/>
          </a:xfrm>
        </p:grpSpPr>
        <p:sp>
          <p:nvSpPr>
            <p:cNvPr id="1385" name="Oval 77"/>
            <p:cNvSpPr/>
            <p:nvPr/>
          </p:nvSpPr>
          <p:spPr>
            <a:xfrm>
              <a:off x="411120" y="2782800"/>
              <a:ext cx="140976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6" name="Oval 78"/>
            <p:cNvSpPr/>
            <p:nvPr/>
          </p:nvSpPr>
          <p:spPr>
            <a:xfrm>
              <a:off x="241200" y="2868480"/>
              <a:ext cx="1409760" cy="139572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7" name="Oval 79"/>
            <p:cNvSpPr/>
            <p:nvPr/>
          </p:nvSpPr>
          <p:spPr>
            <a:xfrm>
              <a:off x="411120" y="2868480"/>
              <a:ext cx="1397160" cy="139572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pic>
        <p:nvPicPr>
          <p:cNvPr id="1388" name="Picture 56" descr=""/>
          <p:cNvPicPr/>
          <p:nvPr/>
        </p:nvPicPr>
        <p:blipFill>
          <a:blip r:embed="rId5"/>
          <a:stretch/>
        </p:blipFill>
        <p:spPr>
          <a:xfrm>
            <a:off x="5435640" y="6213600"/>
            <a:ext cx="3197160" cy="31428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34" descr="Gold leaf left.png"/>
          <p:cNvPicPr/>
          <p:nvPr/>
        </p:nvPicPr>
        <p:blipFill>
          <a:blip r:embed="rId6"/>
          <a:stretch/>
        </p:blipFill>
        <p:spPr>
          <a:xfrm>
            <a:off x="3236760" y="2801880"/>
            <a:ext cx="623880" cy="159084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35" descr="Gold leaf right.png"/>
          <p:cNvPicPr/>
          <p:nvPr/>
        </p:nvPicPr>
        <p:blipFill>
          <a:blip r:embed="rId7"/>
          <a:stretch/>
        </p:blipFill>
        <p:spPr>
          <a:xfrm>
            <a:off x="4722840" y="2781360"/>
            <a:ext cx="6444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Lindokuhle Chonco</cp:lastModifiedBy>
  <cp:lastPrinted>2022-08-12T12:27:53Z</cp:lastPrinted>
  <dcterms:modified xsi:type="dcterms:W3CDTF">2022-11-18T07:41:17Z</dcterms:modified>
  <cp:revision>562</cp:revision>
  <dc:subject/>
  <dc:title>Slide 1</dc:title>
</cp:coreProperties>
</file>